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196-88C0-48EF-A5B5-8542FEBD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947-8C44-4054-B086-645056C0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B77-EAB4-4AC2-946A-471B05DA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3EE-86F7-4B94-BC8A-789F75E3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C60C-60A1-47ED-8780-FD12036A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416A-D79F-46B3-848F-4BE33562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DB96-9D6C-41EA-9C14-223D729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2D87-A3FA-40D7-A7DE-02B95EAA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72FE-2CA1-4EFD-9324-69FAE2A5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6CE7-769C-4242-99F5-361A0F72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5467-8E7D-41C8-84AB-AADD0B94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CF6-5C13-4FD4-AB14-C00C6163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32B1-86BD-4B44-8B26-CA9F376F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3822-A598-453F-82A0-0AADA184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329D-93BA-40BF-BC84-76E47ED0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6984-9C8F-4D34-8440-F2AD5172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DCB7-6872-407D-8495-B412D865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9B8-A92E-469E-A0E9-F93A6635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2FA-5D99-4FB3-AE1D-B50959D1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AAC-9777-4546-AAE4-B8998F7D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55E-DA13-4752-8FD8-6860A102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92C-260D-42FE-B0C2-AEC212C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7B4-D62A-4E65-B7ED-EC7E225D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5D2-A6F9-4885-A76A-3FAC151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DCE3-4331-4072-AA15-4A62969FE89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76F9-85C8-4988-9361-2706E6AA9EF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diserio@fgvsp.br" TargetMode="External"/><Relationship Id="rId3" Type="http://schemas.openxmlformats.org/officeDocument/2006/relationships/hyperlink" Target="mailto:wdamiani@fgvsp.br" TargetMode="External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USINESS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3443040"/>
            <a:ext cx="747864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montar um Business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392200" cy="103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724360" y="506484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Profs. Luiz C. Di Se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3366"/>
                </a:solidFill>
                <a:uFillTx/>
                <a:latin typeface="Arial Narrow"/>
                <a:hlinkClick r:id="rId2"/>
              </a:rPr>
              <a:t>ldiserio@fgvsp.b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Wagner B. Damia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3366"/>
                </a:solidFill>
                <a:uFillTx/>
                <a:latin typeface="Arial Narrow"/>
                <a:hlinkClick r:id="rId3"/>
              </a:rPr>
              <a:t>wdamiani@fgvsp.b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PC-8067-R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ÁRIO EXECU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ósito do Pl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dutos e Serviços Ofertado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álise de Marketing – Características e Esco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de Mercado e de Ven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soa-Cha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dos Financei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torno do Invest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2472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crição da Empresa – Passado e Present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abilidades distintas, Singularidade e Proteçã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49628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628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ÁLISE DE MERC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crição da Indústria, escopo e tendência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rfil do Principa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rcado-alvo – Penetração de Mercad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écnicas predominantes de Venda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blemas, obstáculos e Oportunidad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quisa de Mercado – Específica e G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etição – Forças e Franquez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49628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628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DUTO E/OU SERVIÇ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nefícios – Satisfação das Necessidades do Client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ágio Atual – Idéia, Protótipo, Pequenas Vendas, Etc.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iclo de V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riedade Intelectual – Patentes, Comércio Secreto, Etc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2472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TRATÉGIA DE MERC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766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Específica para o Cres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tribuiçã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aganda – Institucional e de Produ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Específica de Ven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451640" y="189000"/>
          <a:ext cx="1397160" cy="81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89000"/>
                    <a:ext cx="1397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ERA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soa-Chave – Alocação de Recursos, Principais Forç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dução e/ou Entrega de Serviço – Capacidade Técnica, Custos, Logística, Controle de Qualidade, Economias de Escal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ecessidade de Fornecedor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utura Leg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keholder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pa Organizaciona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ursos Human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45164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ANCEI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pital Necessári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o do Capita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torno dos Investi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sado e Presente Financeiro – Fluxo de Caixa, Lucro, Prejuízo, Balanç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jeções Futuras – Fluxo de Caixa, Balanç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licação das Projeções Futura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38036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Ê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umo dos Gestores-Chav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451640" y="333360"/>
          <a:ext cx="1397160" cy="81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333360"/>
                    <a:ext cx="1397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32:30Z</dcterms:created>
  <dc:creator>Re</dc:creator>
  <dc:description/>
  <dc:language>en-US</dc:language>
  <cp:lastModifiedBy>ldiserio</cp:lastModifiedBy>
  <dcterms:modified xsi:type="dcterms:W3CDTF">2007-03-06T21:02:33Z</dcterms:modified>
  <cp:revision>14</cp:revision>
  <dc:subject/>
  <dc:title>BUSINESS PLAN</dc:title>
</cp:coreProperties>
</file>